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93A-C0F0-4A8C-AA27-69F8B682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687-9C82-42BB-81BD-AA9CEDF5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49F-DCFB-4349-8E2E-B5270D1B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0E4-91BE-43DE-9122-28E88613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2E76-FC2F-49AC-B3A9-DA0E3BCF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B683-D857-433E-8024-BC5D495C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C95D-F89A-457B-A9E9-C52F7EA8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B13A-5395-4292-BE6B-FE5849E1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95E3-E9A6-42C6-B391-35E0B120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7E26-1415-42C4-B2CA-F350C9F1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5871-B7CB-4321-9630-E2D92BC4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64B-9C36-477B-ADED-EC3571B1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2E95-A65D-466F-A06D-5C0F473C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CA31-8442-4798-BD0C-367D0D78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689F-6E32-4F0B-9F11-9EE9D2CD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E786-E48F-4F4D-A3E4-8C7E9E41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3014-9DF5-4AAA-AEA8-52E569D0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B39-58AB-4A92-854A-6FAB2D07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B46-9C0B-4CB9-A2D3-F70FBE99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F90-B762-432C-A909-8E7C5C44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642-3C7C-473A-BB10-5A9F43F4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3C8-5A8C-4F7F-A6B5-341BFCFE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DEC-0079-4F37-B7F2-63C9F015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69E-6FE1-4373-BF8D-9B54B7B0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4587-13EB-4DBF-952D-15284E613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DB7F-47BE-4E2B-AAB7-2ACC480E5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685800" y="1523880"/>
          <a:ext cx="777564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564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762120" y="152388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erial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286000" y="1752480"/>
            <a:ext cx="1447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rogressiv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09880" y="1523880"/>
            <a:ext cx="1752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mendment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nd Refor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10080" y="16765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seve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87680" y="1676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894680" y="3168720"/>
            <a:ext cx="66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ll nations agree to let oth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ade with China is called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891080" y="316872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pen Door Poli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222560" y="3124080"/>
            <a:ext cx="59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gressive Movement l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many yea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116600" y="3200400"/>
            <a:ext cx="24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1890-192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91440" y="3168720"/>
            <a:ext cx="53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gressives were from t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class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3736080" y="335268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ddle Cl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892880" y="3168720"/>
            <a:ext cx="557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journalists wrote ab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blems of Society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3659400" y="32004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ckrak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995400" y="3124080"/>
            <a:ext cx="726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articular Muckraker wrote ab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vernment corrup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3660840" y="32767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da Tarb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892880" y="3168720"/>
            <a:ext cx="56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conomic and politic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mination of a strong 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a weak nation is cal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891800" y="3168720"/>
            <a:ext cx="39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rote the boo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Jungle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279240" y="3276720"/>
            <a:ext cx="28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pton Sincla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071360" y="2895480"/>
            <a:ext cx="59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mendment made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rect election of senators la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218400" y="320040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376640" y="3048120"/>
            <a:ext cx="652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mendment gave the w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right to vote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23120" y="320040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910160" y="3200400"/>
            <a:ext cx="58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llows citizens to remo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lected official from offi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3431880" y="32767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070280" y="3048120"/>
            <a:ext cx="43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llows citizens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e legis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2594160" y="327672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itia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822760" y="32004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eri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842400" y="2819520"/>
            <a:ext cx="67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llows citizens to vote on la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907640" y="320040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ferendu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892520" y="3168720"/>
            <a:ext cx="574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osevelt took over when th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sident was assassin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973960" y="327672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cKinl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993960" y="2971800"/>
            <a:ext cx="68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Roosevelt’s famous quo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071000" y="3200400"/>
            <a:ext cx="70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ak Softly and Carry a Big Stick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8360" y="3200400"/>
            <a:ext cx="62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Roosevelts nickna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3126240" y="32004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st Bus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993600" y="2895480"/>
            <a:ext cx="49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ICC form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egul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660120" y="335268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ilroa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299960" y="3124080"/>
            <a:ext cx="703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ain resource from Cub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 interested the United St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223280" y="29718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the name of Roosevelt’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form package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050280" y="327672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quare D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536760" y="2819520"/>
            <a:ext cx="66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fore Taft became the Presiden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was also the Secretary of 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3888360" y="3200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222200" y="2971800"/>
            <a:ext cx="539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ok “The Jungle” w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out what c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t Packing Industr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907640" y="320040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c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94320" y="3168720"/>
            <a:ext cx="49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ariff actually rai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xes on good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3046680" y="3200400"/>
            <a:ext cx="24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ine-Aldr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223640" y="3124080"/>
            <a:ext cx="72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1905 the US Forest Comm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ed save this many acres of fore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3355560" y="327672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 mill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811680" y="32767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222920" y="3124080"/>
            <a:ext cx="580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resident was concer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th the environm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4117320" y="320040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osevel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143000" y="25909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year di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al miners go on strik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428640" y="3048120"/>
            <a:ext cx="130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0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919440" y="3124080"/>
            <a:ext cx="728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idea that English-speaking n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 superior to other nations is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890720" y="3168720"/>
            <a:ext cx="28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glo-Saxo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299600" y="2743200"/>
            <a:ext cx="694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riters who exaggerated or made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ries to attract readers is cal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583800" y="3200400"/>
            <a:ext cx="37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llow Journalis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Sacerdote, Kevin R.</cp:lastModifiedBy>
  <dcterms:modified xsi:type="dcterms:W3CDTF">2015-12-14T13:13:51Z</dcterms:modified>
  <cp:revision>50</cp:revision>
  <dc:subject/>
  <dc:title>Jeopardy</dc:title>
</cp:coreProperties>
</file>